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70F-6578-46AB-9F46-56C8179A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E9B-0890-45CC-903D-3C02885F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EAE-AF5D-4695-8D44-1A91DEBD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D42-8D40-47FE-8368-DD72D027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F5A-E4BE-48B1-AD81-5A73D868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7B3-8ED1-4C61-9811-20B7DB41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E0D-281F-4829-91B5-0DB5393C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1CD-B1FC-44A4-A56B-761DD582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3A9-EAE1-4B43-8C58-B691B3C7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A996-3DB6-4337-BA47-AB0B7771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81BC-BCC1-465F-B7CB-948092A9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C2A-68D2-4A1A-918F-9FE50003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79AF-DB26-412D-9E28-3D81E3156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3523320" y="-2702880"/>
            <a:ext cx="216000" cy="645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8240" y="221616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66"/>
                </a:solidFill>
                <a:latin typeface="Impact"/>
              </a:rPr>
              <a:t>MINISTERUL</a:t>
            </a:r>
            <a:r>
              <a:rPr b="1" lang="en-US" sz="2200" spc="-1" strike="noStrike">
                <a:solidFill>
                  <a:srgbClr val="000066"/>
                </a:solidFill>
                <a:latin typeface="Impact"/>
              </a:rPr>
              <a:t>  ECONOMIEI  SI FINANTEL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33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76640" y="46656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0360" y="3813120"/>
            <a:ext cx="4896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66"/>
                </a:solidFill>
                <a:latin typeface="Arial"/>
              </a:rPr>
              <a:t>SCRISOARE CAD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privind contextul macroeconomic, metodologia de elaborare a proiectelor de buget pe anul 20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şi a estimărilor pentru anii 2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-2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2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, precum şi limit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umelor defalcate din taxa pe valoarea adăugată pentru echilibrarea bugetelor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541320" y="-2863800"/>
            <a:ext cx="179640" cy="645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3555000" y="-2518560"/>
            <a:ext cx="152280" cy="6453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89240" y="907920"/>
            <a:ext cx="87156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46320" y="869796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VOLUMUL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5:41:05Z</dcterms:created>
  <dc:creator>gabi</dc:creator>
  <dc:description/>
  <dc:language>en-US</dc:language>
  <cp:lastModifiedBy>denisa</cp:lastModifiedBy>
  <dcterms:modified xsi:type="dcterms:W3CDTF">2008-08-14T06:30:14Z</dcterms:modified>
  <cp:revision>18</cp:revision>
  <dc:subject/>
  <dc:title>Diapozitivul 1</dc:title>
</cp:coreProperties>
</file>