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D24-769C-4238-BD1C-2DCD370E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888-A07D-4984-92E2-CB707B57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ADB-1C45-4F8D-ACC4-0CFE50CA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935-0D2C-4478-B78A-CBA4A551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4FB-8EAE-43EA-8A47-94B48335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6F9-52DC-4A60-A13D-8AB4C8E3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028-FC18-41A6-B91A-A489C39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BB4-FB2F-4DE4-A70D-5C6EDDA9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CE21-F6D2-4331-86C3-E6976684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96C-61C4-419B-8230-D282CC4C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48E-B45B-4349-ADEA-B907F89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5E3-8A35-4CFF-A1FD-D16F87CC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0CD7-C2ED-4B26-BB20-F0A2C7614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3523320" y="-2702880"/>
            <a:ext cx="216000" cy="645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8240" y="22161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66"/>
                </a:solidFill>
                <a:latin typeface="Impact"/>
              </a:rPr>
              <a:t>MINISTERUL</a:t>
            </a:r>
            <a:r>
              <a:rPr b="1" lang="en-US" sz="2200" spc="-1" strike="noStrike">
                <a:solidFill>
                  <a:srgbClr val="000066"/>
                </a:solidFill>
                <a:latin typeface="Impact"/>
              </a:rPr>
              <a:t>  ECONOMIEI  SI FINANTEL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33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76640" y="46656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3813120"/>
            <a:ext cx="4896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66"/>
                </a:solidFill>
                <a:latin typeface="Arial"/>
              </a:rPr>
              <a:t>SCRISOARE CAD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privind contextul macroeconomic, metodologia de elaborare a proiectelor de buget pe anul 20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 şi a estimărilor pentru anii 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-2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, precum şi limi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sumelor defalcate din taxa pe valoarea adăugată pentru echilibrarea bugetelor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3541320" y="-2863800"/>
            <a:ext cx="179640" cy="6453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3555000" y="-2518560"/>
            <a:ext cx="152280" cy="645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89240" y="907920"/>
            <a:ext cx="87156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46320" y="86979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OLUMUL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5:41:05Z</dcterms:created>
  <dc:creator>gabi</dc:creator>
  <dc:description/>
  <dc:language>en-US</dc:language>
  <cp:lastModifiedBy>denisa</cp:lastModifiedBy>
  <dcterms:modified xsi:type="dcterms:W3CDTF">2008-08-14T06:29:15Z</dcterms:modified>
  <cp:revision>17</cp:revision>
  <dc:subject/>
  <dc:title>Diapozitivul 1</dc:title>
</cp:coreProperties>
</file>